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85F-B9B2-4BE2-B053-C0F28E3F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738-B950-4FFF-8270-05A9886D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BD8-A9FE-4471-BC8E-B194D28D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1C8-FC73-4318-875E-18B5AFEA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EF6-5E98-45F5-9D14-30E24AF8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553-5683-419A-A554-620CFE6C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A02-93A4-405B-A2E6-19B9B0BA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BDE-F0BE-4581-B0C7-C63CDE4F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0E2-359A-439E-8F50-100BDA5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A5A-8D6A-4E6C-B297-6BA9553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013-CF54-4375-A15E-1EE0F5DF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A33-94EA-4626-9762-8A0E31D9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B0F-B635-40A5-9AD4-17F56013D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4680" y="114300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步进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3025080" y="236160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1440" y="312336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3440" y="39618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3440" y="47235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4821120" cy="670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699120"/>
            <a:ext cx="28954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运料小车单流程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537804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48520" y="2278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760" y="791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选择不同运行方式的运料小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155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27320" y="3733560"/>
            <a:ext cx="1733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运料小车的选择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84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在左面装料处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种原料中选择一种装入，右行送料，自动将原料对应卸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处，左行返回装料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6040" y="500400"/>
            <a:ext cx="472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组合选择在何处卸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333760" cy="455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942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结构的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1440" y="3962520"/>
          <a:ext cx="9145440" cy="2728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5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345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17920" y="3472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12680" y="105840"/>
            <a:ext cx="512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选择不同运行方式的运料小车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620120" cy="590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58600" y="6323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77120" y="3801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132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十字路口交通信号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50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一个周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南北信号灯和东西信号灯同时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绿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黄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绿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黄灯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5410440" cy="370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24480" y="539424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384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68840" y="59112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4160" y="7610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控制线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8840" y="456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487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1400" y="5911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886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2720520" y="4564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4760" y="1097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台电动机顺序启动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9036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控制要求是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6640" y="289476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3352680"/>
          <a:ext cx="9144000" cy="187344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523880"/>
                <a:gridCol w="1676520"/>
                <a:gridCol w="137160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5854680" cy="655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271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560" y="281880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06320" y="182160"/>
            <a:ext cx="165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工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6096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20320" y="5942880"/>
            <a:ext cx="26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27160" y="59871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895480"/>
          <a:ext cx="9144000" cy="100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初始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回零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用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保持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报警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188880" y="639360"/>
            <a:ext cx="229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步进程序中要使用状态继电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有状态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点，分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，状态继电器元件分类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6600" y="24058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25240" y="258480"/>
            <a:ext cx="201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970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是描述顺序控制功能的图解表示法（见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状态流程图主要由状态（工步）、动作、有向连线、转换条件组成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344016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64640" y="617148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503880"/>
            <a:ext cx="8382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使用说明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步进接点接到左母线，步进接点只有常开接点。步进接点接通，需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置位。步进接点如同主控指令一样，将左母线移到新的临时位置，即移到步进接点右边，相当于临时母线。所以，步进指令后的接点必须使用“取”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步进接点具有主控功能。步进接点接通，与之相连的电路被执行；步进接点断开，与之相连的电路停止执行。若要在步进接点断开时仍然保持线圈的输出，要使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不要使用输出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称为“步进返回”指令，其功能是返回到原来左母线的位置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仅在最后一个状态的末行使用一次，否则程序报错不能运行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80560" y="182160"/>
            <a:ext cx="3376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T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8720" y="7614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-1440" y="1371600"/>
          <a:ext cx="9145440" cy="1095120"/>
        </p:xfrm>
        <a:graphic>
          <a:graphicData uri="http://schemas.openxmlformats.org/drawingml/2006/table">
            <a:tbl>
              <a:tblPr/>
              <a:tblGrid>
                <a:gridCol w="1220760"/>
                <a:gridCol w="1471320"/>
                <a:gridCol w="3453120"/>
                <a:gridCol w="1933560"/>
                <a:gridCol w="1066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左母线上连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返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左母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91320" y="486720"/>
            <a:ext cx="2838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梯形图和指令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6564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的步进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45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252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29160" y="30420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428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运料小车单流程控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120" y="6171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工作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16920" y="624780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609480"/>
          <a:ext cx="9147240" cy="200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4240"/>
                <a:gridCol w="1523880"/>
                <a:gridCol w="1525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装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卸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617920" y="196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5715000" cy="374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10280" y="53938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3T07:52:0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